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4478-C96B-41BC-9B2A-93CEA7C7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7ABC-A926-4F24-8490-3E22CBCD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A8DD-C037-4E8E-989B-BF91CE09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9362-8CA1-442E-8835-B8BB34F5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486A-0E1D-4E33-ABC1-A7960B28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A7BF-B254-4AE6-97C5-F0C0522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4623-4427-4852-868F-FDE502B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EA57-25EC-4ACC-8276-CF63DE8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2BD0-E98C-4701-90A3-BFB2AD14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0F85-B176-4064-B939-32048B83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1E82-83C2-4E34-9A4D-178A140A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23B8-603F-4B61-B577-2EFAACE9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F6C3-D1D0-48A2-A024-5DCC8E26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CC0-7B76-43A9-9ED4-08CBD333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B96C-47B3-407E-8213-3083E4FD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CE6D-8E18-40D1-8BA8-4939CE8B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C5B0-52A6-47C9-88B4-6074281E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80B2-D0FD-4011-B7A4-F79ADAEF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0961-D23A-4A68-B645-A38B6602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0ACB-331B-4BA2-9EE5-B2253CD5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801B-261E-4FBF-A9FA-8CD9B05A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A2ED-5656-49A0-A385-D960FC1F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EDC8-0AD5-4C25-8A13-47E066D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3EB9-6353-4F4D-B804-BEA7EBE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6E47-7F90-4A6F-B07B-1177A5B856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7728-BA4E-4BA7-922B-9E8EE1484E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ВЛИЯНИЕ НАРКОТИКОВ НА ЗДОРОВЬЕ ЧЕЛОВЕК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626920" y="4292640"/>
            <a:ext cx="6265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Патракеева Татьяна 11а класс город Сыктывкар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отребление наркотиков опасно для жизни челове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ркоманы – это угроза не только для близких людей, но и для всего социального общества. Наркотики – это фальшивое представление о счастье. Наркотики разрушают семьи. Наркотики препятствуют творческому и духовному развит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Список литературы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Исследовать какой вред наносит употребление наркотиков физическому здоровью челове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что такое 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какие виды наркотиков существ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ить негативное влияние наркотиков на нервную систему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Что такое наркотики?</a:t>
            </a:r>
            <a:br>
              <a:rPr sz="20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Наркотик - это любое химическое соединение, которое воздействует на функционирование организма. Злоупотребление наркотиками - это их употребление любым неприемлемым с медицинской и социальной точек зрения образом или приемлемым, но неправильным. </a:t>
            </a: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наркотики независимо от пути введения в организм в большей или меньшей степени обязательно поврежд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24922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рвную систему (в том числе головной мозг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мунную систему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чен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рдц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4869000"/>
            <a:ext cx="844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35280" y="1125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можно разделить на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39640" y="1700280"/>
            <a:ext cx="165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332000" y="1773360"/>
            <a:ext cx="107928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843280" y="1773360"/>
            <a:ext cx="712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64000" y="1700280"/>
            <a:ext cx="43344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1844640"/>
            <a:ext cx="7192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51640" y="1700280"/>
            <a:ext cx="792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77080" y="155736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23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8000" y="350028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пресс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63640" y="3068640"/>
            <a:ext cx="17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соци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3080" y="2852640"/>
            <a:ext cx="1163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о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31417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27640" y="3213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дел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653080" y="2852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стимуля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2320" y="2421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патог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Виды наркотиков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каин              Экстази      Геро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1542960" cy="2162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1447920" cy="2199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2076120" cy="1924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6516720" y="2276640"/>
            <a:ext cx="1295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угие вещества, потребление которых легко вызывает у людей болезненное привыкание (кокаин, алкоголь, опиаты, амфетамин и др.), влияют на деятельность мозговой системы вознаграждения. Стимуляция этой системы порождает чувство удовлетворения и заставляет человека повторять те формы поведения, которые способствовали его дости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ef6"/>
                </a:solidFill>
                <a:latin typeface="Arial"/>
              </a:rPr>
              <a:t>СКАНОГРАММЫ МОЗГОВЫХ СТРУКТУР НАРКОМАН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илежащее ядро                                                                                                                      - Миндалина                                                                                                                                        - Сублентикулярная часть минда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ентральная область покры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ефронтальная к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058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Микрофотографии прилежащего ядра животных, находящихся под воздействием ненаркотических веществ: дендриты с обычным количеством шипиков – выростов, улавливающих нервные сигналы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лева и в центре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У животных, пристрастившихся к кокаину, шипиков на дендритах гораздо больше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права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96400" y="2422440"/>
            <a:ext cx="77281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19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28:26Z</dcterms:created>
  <dc:creator>User</dc:creator>
  <dc:description/>
  <dc:language>en-US</dc:language>
  <cp:lastModifiedBy>User</cp:lastModifiedBy>
  <dcterms:modified xsi:type="dcterms:W3CDTF">2009-11-10T14:37:58Z</dcterms:modified>
  <cp:revision>7</cp:revision>
  <dc:subject/>
  <dc:title>ВЛИЯНИЕ НАРКОТИКОВ НА ЗДОРОВЬЕ ЧЕЛОВЕКА</dc:title>
</cp:coreProperties>
</file>